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6056-B650-4483-A01D-910E001C9E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9591-94E3-45F3-9F90-E0E8FBA298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23F-4192-4881-AECD-F2FA9B21C67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B40-433D-4759-9E37-6A68FA88D4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1D6-B409-43C3-9DB4-5FBFCEE98B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4E8-2269-4922-A493-336D3C10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D67-3C49-4623-A7A5-67B7C4D9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2B6-54EC-4764-9BC6-11D69F6E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1E9-F863-4C26-9DA7-48E02492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8E81-3287-464D-BB29-78D397D9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87AE-006D-48B5-8E0F-59859099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3DD-EB59-445C-946E-B2FC31BD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EDC2-2498-40F9-AE0B-39CE0487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963B-B233-4DED-B742-1D2317BA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0E8-B28C-4B63-8D55-57871147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2C7F-87C7-418B-AB67-2AAFCF9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E42-87BB-436B-9C0C-A6AFE48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AD46-8E03-46D5-A54E-B58D8F5F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2093-79A5-4EB8-823B-0A85B2E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1130-CD02-441A-809A-5CCCD505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F27E-F7E4-470B-9B35-C2A2944C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DDC0-7F1A-456A-BC62-78436187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75E-6A4B-41F9-B313-C27F1AE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253-AC01-40AC-A447-AF50BC83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5FD-C091-4292-9191-A9584782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FD1-F63E-409D-BC58-E727ECA8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A48-E9F6-46EB-9185-DF45A08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22B-CCC7-411B-91AB-AE35C182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A69-F27E-4F83-89E6-374EF87D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0F3F-D400-4F52-9128-22794DB722A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1E96-9884-46F9-AD62-ECB045C376B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Global perspecives on coastal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oastal tourism trend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higher quality facilities/ser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marine and coastal recreation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ore aware of environmental 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cern for responsibl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interest in nature and cul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portunities to combine coastal and other eperiences through itineraries and multi-centred off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all-inclusive holi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cruis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enefits of coastal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tional revenue generation and international recei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cal jobs and prospe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pport for infrastructure and community fac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aising awareness of the need for conser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unding investment in environment and heri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viding alternative, more sustainable community liveliho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Negative impacts and challenges  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hysical destruction and loss of ame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ss of habitat and biod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restrial and marine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source consumption and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imited community engagement and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perty development patter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asonality and sensitiv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Ledbury</cp:lastModifiedBy>
  <cp:lastPrinted>2013-10-19T18:19:27Z</cp:lastPrinted>
  <dcterms:modified xsi:type="dcterms:W3CDTF">2013-10-21T07:48:12Z</dcterms:modified>
  <cp:revision>51</cp:revision>
  <dc:subject/>
  <dc:title>PowerPoint Presentation</dc:title>
</cp:coreProperties>
</file>